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99B-F477-42A3-A00A-FAC35EFF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FE3-E73A-45CB-80AC-E91D9F44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CAE-C4D4-45A9-9ABB-8812774D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A84-2DE8-4AAD-88DC-2BC75EBB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C1B1-38D2-4298-9B31-60A65AFC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D3A8-2050-45BB-8AE0-52E5649D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1E57-F977-4841-98D8-515F3FA2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7AE0-D1FB-41D6-B488-FE3EE505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2CC1-FAF9-4944-90E9-FAA725DA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685800"/>
            <a:ext cx="5943600" cy="1455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85A8-7179-4680-926C-FDE842A6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B860-3263-47C2-93D2-9602C547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AED-EFAF-4B85-9189-8E1FD413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776A-341B-45F7-9081-BF11E8D0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FB7E-8B53-4346-958F-3EAEFB1E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D56C-EEA8-40E8-86E3-1E2D90EF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B495-D818-4D92-A36B-97F97640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FB87-E8E2-45A6-95D8-5B2DEB15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E1C-F8BB-411A-A728-5BAF9992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E78-E54F-4CEE-8AE5-B945B192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6EF-50CE-4B65-BA51-2E7D0842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85800"/>
            <a:ext cx="5943600" cy="1455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D1B-E2B7-4936-A638-84283D47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1C0-190E-42E2-ACBE-B39E8894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EC0-ECFD-4FCA-8F7D-DB8EFF19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D5A-9A76-4AD6-9EA3-EFE3215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5556" r="0" b="23335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0961-B40E-4947-B1E2-7E8BE52F62E1}" type="slidenum">
              <a:rPr b="0" lang="en-US" sz="14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9165" t="11112" r="9165" b="11112"/>
            <a:stretch/>
          </p:blipFill>
          <p:spPr>
            <a:xfrm>
              <a:off x="838080" y="762120"/>
              <a:ext cx="7467840" cy="53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226C-3140-4465-BBAB-BD03623EEB8C}" type="slidenum">
              <a:rPr b="0" lang="en-US" sz="14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Compatibility 6 Full-Adder Topologies  with </a:t>
            </a:r>
            <a:r>
              <a:rPr b="1" i="1" lang="en-US" sz="4400" spc="-1" strike="noStrike">
                <a:solidFill>
                  <a:srgbClr val="333399"/>
                </a:solidFill>
                <a:latin typeface="Calibri"/>
              </a:rPr>
              <a:t>V</a:t>
            </a:r>
            <a:r>
              <a:rPr b="1" i="1" lang="en-US" sz="4400" spc="-1" strike="noStrike" baseline="-25000">
                <a:solidFill>
                  <a:srgbClr val="333399"/>
                </a:solidFill>
                <a:latin typeface="Calibri"/>
              </a:rPr>
              <a:t>DD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 Stacking</a:t>
            </a:r>
            <a:endParaRPr b="1" lang="en-US" sz="4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Calibri"/>
              </a:rPr>
              <a:t>By Wenlu Sun &amp; Jiyati Verma</a:t>
            </a:r>
            <a:endParaRPr b="0" lang="en-US" sz="28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Thursday, December 1, 2011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ECE 6332 – VLSI Design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Final Project Presentation</a:t>
            </a:r>
            <a:endParaRPr b="0" lang="en-US" sz="24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Simulation Results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11669" r="0" b="0"/>
          <a:stretch/>
        </p:blipFill>
        <p:spPr>
          <a:xfrm>
            <a:off x="1657440" y="2819520"/>
            <a:ext cx="5810040" cy="4038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Static CMOS Adder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5929" dir="12828878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205 to 1.050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9.55% above and 4.55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0" t="10184" r="0" b="0"/>
          <a:stretch/>
        </p:blipFill>
        <p:spPr>
          <a:xfrm>
            <a:off x="1657440" y="2743200"/>
            <a:ext cx="5829120" cy="4114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Mirror Full Adder (MF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148 to 0.985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4.36% above and 10.5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8946" r="0" b="0"/>
          <a:stretch/>
        </p:blipFill>
        <p:spPr>
          <a:xfrm>
            <a:off x="685800" y="2819520"/>
            <a:ext cx="7772400" cy="40384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Function Adder (TF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295 to 1.049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17.7% above and 4.63% below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57440" y="2819520"/>
            <a:ext cx="5829120" cy="40384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Gate Adder (TGA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365 to 0.790 V.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4.1% above and 28.2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38360" y="2819520"/>
            <a:ext cx="5829120" cy="4038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Adder #1 (Dyn1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335 to 0.7 V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1.4% above and 36.4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Adder #2 (Dyn2)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1.406 to 0.861 V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ercents: 27.8% above and 21.7% below.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1850" r="0" b="0"/>
          <a:stretch/>
        </p:blipFill>
        <p:spPr>
          <a:xfrm>
            <a:off x="1657440" y="2819520"/>
            <a:ext cx="5829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ll together now…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Static CMOS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9.55%/-4.55% (Avg: 7.05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MF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4.36%/-10.5% (Avg: 7.43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TF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17.7%/-4.63% (Avg: 11.2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Dyn2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7.8%/-21.7% (Avg: 24.8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TGA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4.1%/-28.2% (Avg: 26.2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4d4d4d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Dyn1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+21.4%/-36.4% (Avg: 28.9%)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akeaways / Conclusion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Static adders are the best!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Dynamic adders compromise stability for speed, which is needed in Stacked-</a:t>
            </a: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4d4d4d"/>
                </a:solidFill>
                <a:latin typeface="Calibri"/>
              </a:rPr>
              <a:t>DD</a:t>
            </a: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designs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Out of transmission logic adders, TFA does the best balancing of current</a:t>
            </a:r>
            <a:endParaRPr b="0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5943600" cy="31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alibri"/>
              </a:rPr>
              <a:t>Any Questions?</a:t>
            </a:r>
            <a:endParaRPr b="1" lang="en-US" sz="54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Overview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Purpose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ull Adder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adence Implementation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imulation Result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akeaway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alibri"/>
              </a:rPr>
              <a:t>V</a:t>
            </a:r>
            <a:r>
              <a:rPr b="1" i="1" lang="en-US" sz="4000" spc="-1" strike="noStrike" baseline="-25000">
                <a:solidFill>
                  <a:srgbClr val="0066ff"/>
                </a:solidFill>
                <a:latin typeface="Calibri"/>
              </a:rPr>
              <a:t>DD</a:t>
            </a: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 Stacking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52680" y="866880"/>
            <a:ext cx="5486400" cy="5991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Noise Reduction 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attenuates Power 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Dissipated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Application of 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Stacked-</a:t>
            </a:r>
            <a:r>
              <a:rPr b="0" i="1" lang="en-US" sz="2400" spc="-1" strike="noStrike">
                <a:solidFill>
                  <a:srgbClr val="4d4d4d"/>
                </a:solidFill>
                <a:latin typeface="Calibri"/>
              </a:rPr>
              <a:t>V</a:t>
            </a:r>
            <a:r>
              <a:rPr b="0" i="1" lang="en-US" sz="2400" spc="-1" strike="noStrike" baseline="-25000">
                <a:solidFill>
                  <a:srgbClr val="4d4d4d"/>
                </a:solidFill>
                <a:latin typeface="Calibri"/>
              </a:rPr>
              <a:t>DD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 to adders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Purpose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o minimize the fluctuation of V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Calibri"/>
              </a:rPr>
              <a:t>middle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Which full adder 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topology</a:t>
            </a: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 does this the best? 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an we make any generalizations </a:t>
            </a:r>
            <a:br>
              <a:rPr sz="3200"/>
            </a:b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in those decisions?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10320" y="4091040"/>
            <a:ext cx="2533680" cy="2766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2666880"/>
            <a:ext cx="1295640" cy="762120"/>
          </a:xfrm>
          <a:prstGeom prst="wedgeEllipseCallout">
            <a:avLst>
              <a:gd name="adj1" fmla="val 55393"/>
              <a:gd name="adj2" fmla="val -51458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Stat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971800"/>
            <a:ext cx="2590920" cy="914400"/>
          </a:xfrm>
          <a:prstGeom prst="wedgeEllipseCallout">
            <a:avLst>
              <a:gd name="adj1" fmla="val -6310"/>
              <a:gd name="adj2" fmla="val -86287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Transmiss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Gat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2666880"/>
            <a:ext cx="1752480" cy="762120"/>
          </a:xfrm>
          <a:prstGeom prst="wedgeEllipseCallout">
            <a:avLst>
              <a:gd name="adj1" fmla="val -58240"/>
              <a:gd name="adj2" fmla="val -49375"/>
            </a:avLst>
          </a:prstGeom>
          <a:solidFill>
            <a:srgbClr val="bbe0e3">
              <a:alpha val="45000"/>
            </a:srgbClr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Calibri"/>
              </a:rPr>
              <a:t>Dynam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Static Full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5600880" cy="288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5667480" cy="2781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tatic CMOS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Mirror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Transmission Logic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ransmission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Function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Transmission 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Gate Adder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18120" y="1447920"/>
            <a:ext cx="236844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41960" y="4267080"/>
            <a:ext cx="2301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Dynamic NP </a:t>
            </a:r>
            <a:br>
              <a:rPr sz="4000"/>
            </a:b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MOS Adders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tandard Fare (#1)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Suggested From a Paper(#2)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295920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alibri"/>
              </a:rPr>
              <a:t>Cadence Implementation</a:t>
            </a:r>
            <a:endParaRPr b="1" lang="en-US" sz="4000" spc="-1" strike="noStrike">
              <a:solidFill>
                <a:srgbClr val="0066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alibri"/>
              </a:rPr>
              <a:t>Claim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: When inputs of FA0 and FA1 swing in opposite directions, then the greatest amount of noise occurs at the output causing the most imbalanced V</a:t>
            </a:r>
            <a:r>
              <a:rPr b="0" lang="en-US" sz="2400" spc="-1" strike="noStrike" baseline="-25000">
                <a:solidFill>
                  <a:srgbClr val="4d4d4d"/>
                </a:solidFill>
                <a:latin typeface="Calibri"/>
              </a:rPr>
              <a:t>middle</a:t>
            </a: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 conditions. </a:t>
            </a:r>
            <a:endParaRPr b="0" lang="en-US" sz="24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2724120"/>
            <a:ext cx="8391600" cy="22287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76320" y="1447920"/>
            <a:ext cx="8610480" cy="4724280"/>
            <a:chOff x="76320" y="1447920"/>
            <a:chExt cx="8610480" cy="4724280"/>
          </a:xfrm>
        </p:grpSpPr>
        <p:sp>
          <p:nvSpPr>
            <p:cNvPr id="115" name=""/>
            <p:cNvSpPr/>
            <p:nvPr/>
          </p:nvSpPr>
          <p:spPr>
            <a:xfrm>
              <a:off x="76320" y="1447920"/>
              <a:ext cx="861048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2320" y="1981080"/>
              <a:ext cx="3124080" cy="3200400"/>
            </a:xfrm>
            <a:prstGeom prst="rect">
              <a:avLst/>
            </a:prstGeom>
            <a:noFill/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33526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  <a:ea typeface="Arial"/>
                </a:rPr>
                <a:t>–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362320" y="1752120"/>
              <a:ext cx="0" cy="22860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1752480"/>
              <a:ext cx="152280" cy="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33880" y="2438280"/>
              <a:ext cx="914400" cy="762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FA0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8280" y="270504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8280" y="293364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00920" y="277344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out,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01640" y="254484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S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33880" y="3962520"/>
              <a:ext cx="914400" cy="76176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FA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411480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434340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76920" y="4572000"/>
              <a:ext cx="15696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8280" y="422928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48280" y="4457880"/>
              <a:ext cx="228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31600" y="39625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0440" y="41911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B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00920" y="4297320"/>
              <a:ext cx="63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out,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01640" y="406872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S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5120" y="3505320"/>
              <a:ext cx="152280" cy="15228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486400" y="5181120"/>
              <a:ext cx="0" cy="22860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5371920" y="5333760"/>
              <a:ext cx="228600" cy="22860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41840" y="33670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c1c1c"/>
                  </a:solidFill>
                  <a:latin typeface="Arial"/>
                </a:rPr>
                <a:t>V</a:t>
              </a:r>
              <a:r>
                <a:rPr b="0" i="1" lang="en-US" sz="1800" spc="-1" strike="noStrike" baseline="-25000">
                  <a:solidFill>
                    <a:srgbClr val="1c1c1c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90920" y="3443400"/>
              <a:ext cx="14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c1c1c"/>
                  </a:solidFill>
                  <a:latin typeface="Arial"/>
                </a:rPr>
                <a:t>V</a:t>
              </a:r>
              <a:r>
                <a:rPr b="0" i="1" lang="en-US" sz="1800" spc="-1" strike="noStrike" baseline="-25000">
                  <a:solidFill>
                    <a:srgbClr val="1c1c1c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800600" y="4267080"/>
              <a:ext cx="15192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31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31264"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40" idx="0"/>
              <a:endCxn id="128" idx="0"/>
            </p:cNvCxnSpPr>
            <p:nvPr/>
          </p:nvCxnSpPr>
          <p:spPr>
            <a:xfrm>
              <a:off x="4871880" y="4419360"/>
              <a:ext cx="5760" cy="153000"/>
            </a:xfrm>
            <a:prstGeom prst="straightConnector1">
              <a:avLst/>
            </a:prstGeom>
            <a:ln w="9360">
              <a:solidFill>
                <a:srgbClr val="1c1c1c"/>
              </a:solidFill>
              <a:miter/>
            </a:ln>
          </p:spPr>
        </p:cxnSp>
        <p:sp>
          <p:nvSpPr>
            <p:cNvPr id="142" name=""/>
            <p:cNvSpPr/>
            <p:nvPr/>
          </p:nvSpPr>
          <p:spPr>
            <a:xfrm flipV="1">
              <a:off x="4876920" y="4114440"/>
              <a:ext cx="0" cy="1522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441972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in,1 = A1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91160" y="259092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1160" y="2819520"/>
              <a:ext cx="30960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3440" y="3048120"/>
              <a:ext cx="157320" cy="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86960" y="26668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B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767120" y="2743200"/>
              <a:ext cx="15192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31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31264"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48" idx="0"/>
              <a:endCxn id="146" idx="0"/>
            </p:cNvCxnSpPr>
            <p:nvPr/>
          </p:nvCxnSpPr>
          <p:spPr>
            <a:xfrm>
              <a:off x="4838400" y="2895480"/>
              <a:ext cx="5400" cy="153360"/>
            </a:xfrm>
            <a:prstGeom prst="straightConnector1">
              <a:avLst/>
            </a:prstGeom>
            <a:ln w="9360">
              <a:solidFill>
                <a:srgbClr val="1c1c1c"/>
              </a:solidFill>
              <a:miter/>
            </a:ln>
          </p:spPr>
        </p:cxnSp>
        <p:sp>
          <p:nvSpPr>
            <p:cNvPr id="150" name=""/>
            <p:cNvSpPr/>
            <p:nvPr/>
          </p:nvSpPr>
          <p:spPr>
            <a:xfrm flipV="1">
              <a:off x="4843440" y="2590560"/>
              <a:ext cx="0" cy="152280"/>
            </a:xfrm>
            <a:prstGeom prst="line">
              <a:avLst/>
            </a:prstGeom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2720" y="2895480"/>
              <a:ext cx="8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Cin,0 = A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86960" y="24382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0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4038480"/>
              <a:ext cx="152280" cy="12564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2743200"/>
              <a:ext cx="152640" cy="12528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342680" y="4267080"/>
              <a:ext cx="152280" cy="12564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267080" y="2514600"/>
              <a:ext cx="152640" cy="125280"/>
            </a:xfrm>
            <a:custGeom>
              <a:avLst/>
              <a:gdLst/>
              <a:ahLst/>
              <a:rect l="l" t="t" r="r" b="b"/>
              <a:pathLst>
                <a:path w="175" h="144">
                  <a:moveTo>
                    <a:pt x="0" y="144"/>
                  </a:moveTo>
                  <a:lnTo>
                    <a:pt x="72" y="144"/>
                  </a:lnTo>
                  <a:lnTo>
                    <a:pt x="96" y="0"/>
                  </a:lnTo>
                  <a:lnTo>
                    <a:pt x="175" y="1"/>
                  </a:lnTo>
                </a:path>
              </a:pathLst>
            </a:custGeom>
            <a:noFill/>
            <a:ln w="284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98280" y="243828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1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0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98280" y="266688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0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1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74600" y="396252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0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1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74600" y="4191120"/>
              <a:ext cx="50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(1</a:t>
              </a:r>
              <a:r>
                <a:rPr b="0" lang="en-US" sz="1200" spc="-1" strike="noStrike">
                  <a:solidFill>
                    <a:srgbClr val="1c1c1c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0)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686800" cy="6827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324480" y="64911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1c1c"/>
                </a:solidFill>
                <a:latin typeface="Calibri"/>
              </a:rPr>
              <a:t>I/O for Mirror adder…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6:29:18Z</dcterms:created>
  <dc:creator> </dc:creator>
  <dc:description/>
  <dc:language>en-US</dc:language>
  <cp:lastModifiedBy> </cp:lastModifiedBy>
  <dcterms:modified xsi:type="dcterms:W3CDTF">2011-12-01T16:46:59Z</dcterms:modified>
  <cp:revision>4</cp:revision>
  <dc:subject/>
  <dc:title>The Effectiveness of Stacked-VDD on Different Full-Adder Topologies without Voltage Regulation</dc:title>
</cp:coreProperties>
</file>